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461-4ECE-4916-8EA6-9410BF06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449-EE6D-4851-95DB-F1A933B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B3A-692F-43B1-B4A2-4C8FAD7B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B1B-865F-42E3-819D-3EBD858A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73D-B44A-4C8C-9DE5-03CDF5C7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0B1-69D3-463C-A879-08FC5E5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733-7A08-47E6-9AC6-61671CC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456-A107-4717-B1E9-3F370E1D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512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613-A8C8-4A9A-8B88-41990697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051-6EB8-45AC-88E4-DAA96AB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28F-A1D5-457D-8CCD-71845D7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ED1-D1F9-4586-AC36-75C88D1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6463-FDA8-425B-BE30-A0031A0B2880}" type="slidenum">
              <a:rPr b="0" lang="en-US" sz="1400" spc="-1" strike="noStrike">
                <a:solidFill>
                  <a:srgbClr val="fffff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ptimizing Seating to Achieve Wedded Blis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Jennifer Milacci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Robb Milacci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John Pettengill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Jeff Wilson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Mike Wimsatt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utput 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2920" y="298440"/>
            <a:ext cx="3857760" cy="640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inal table assignments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8E5-3C45-4E4C-8872-0659015784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바탕"/>
              </a:rPr>
              <a:t>Model Limitations</a:t>
            </a:r>
            <a:endParaRPr b="1" lang="en-US" sz="36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Evolutionary Solver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Doesn’t always find optimal solution – gets stuck on local max/min instead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cale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Excel gets bogged down with more guest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Penalty Decision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Highly sensitive to relative payoff amount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85E-7252-411A-8A7E-180C818E5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Potential Enhancemen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Allow for individual penalties/payoff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Maximize individual utility rather than table utility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One-on-one tradeoffs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Needs to be more realistic for real-world wedding scenarios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bility to import guest list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llow for greater flexibility in number of tables and guests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566-57DA-4A92-9385-A174F490E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Conclusion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The model solved our problem, but Evolutionary Solver didn’t provide the optimal solution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Limitations of scale kept us from conducting this in a larger and more flexible capacity.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E33-765D-4348-A9B1-BAD7B087D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Problem Definition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Assign wedding guests to tables for the wedding reception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Ensure like groups sit together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Ensure people who are dissimilar do not sit together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A23-822A-44CF-97AD-0412FA528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Formulation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Decision variable: At which table does each guest sit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Objective: Maximize utility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Constraints: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umber of table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umber of guests per tab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D15-1487-42E7-96B4-4C3FC886A5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npu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Guest list consists of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# of peop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Group assignment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292560" cy="637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CCC-685F-42C2-AD06-AB8B13C5B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npu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Payoff table by group to determine cross utility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62012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D64-18D7-4323-AAD1-8AFD5ABD5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npu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Penalties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umber of table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Minimum/Maximum guests per tab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394320" cy="31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EE3-0607-4A04-9CBA-9C69CED46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Solution Methodology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Calculation of utility (by table)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360" y="5102280"/>
            <a:ext cx="9123480" cy="160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62056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44120" y="23623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sh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7F7-323F-4A66-B586-D636243CB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utput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irst run of Evolutionary Solver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867360" cy="1139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8320" y="3825720"/>
            <a:ext cx="4694400" cy="24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D5D-E086-4E4D-A23C-331BEDBD2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utput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바탕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 Iteration: Minor tweaks to initial output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6867360" cy="114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4435560" cy="22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6AB-8FFD-466E-85BB-F89FBEAE5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4:11:54Z</dcterms:created>
  <dc:creator>Jennifer Milacci</dc:creator>
  <dc:description/>
  <dc:language>en-US</dc:language>
  <cp:lastModifiedBy>Mike Wimsatt</cp:lastModifiedBy>
  <dcterms:modified xsi:type="dcterms:W3CDTF">2003-12-01T13:59:15Z</dcterms:modified>
  <cp:revision>12</cp:revision>
  <dc:subject/>
  <dc:title>Optimizing Wedded Bli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7871394</vt:r8>
  </property>
  <property fmtid="{D5CDD505-2E9C-101B-9397-08002B2CF9AE}" pid="3" name="_AuthorEmail">
    <vt:lpwstr>mw689@stern.nyu.edu</vt:lpwstr>
  </property>
  <property fmtid="{D5CDD505-2E9C-101B-9397-08002B2CF9AE}" pid="4" name="_AuthorEmailDisplayName">
    <vt:lpwstr>Mike Wimsatt</vt:lpwstr>
  </property>
  <property fmtid="{D5CDD505-2E9C-101B-9397-08002B2CF9AE}" pid="5" name="_EmailSubject">
    <vt:lpwstr>FINAL - wedding presentation.ppt</vt:lpwstr>
  </property>
</Properties>
</file>